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3EEB-A624-4569-B878-9C668950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851-4638-4835-9C2D-ADDFFBE3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F2C7-D8F4-4042-8AC2-36EC92F1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310-5B9E-42CA-A895-E46DDF37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F6F-5498-4A98-8512-35C37AAB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A6BB-48AA-4999-BC48-FD400F66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B908-0332-421B-80F1-621E005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14D-2E36-4F3D-8F3B-382784B1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294-D15B-46A9-A205-2E74804D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9E2A-46F4-47C5-A551-FB2E0060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F6A-9FAB-4573-86C3-78C2E599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4086-C3B8-471F-9CBC-0F356A66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1676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F824-1357-4BE1-95CC-229CBC930B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8675640" y="5084640"/>
            <a:ext cx="247680" cy="1181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762120" y="5335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55640" y="1341360"/>
            <a:ext cx="792468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owerPoint file contains some Learning Objectives for this chapter in </a:t>
            </a: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Physics For You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a limited amount of colour has been used on these slides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 of course you can customise them in any way you w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 well as introducing each lesson with the relevant slide, and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sing the slide to summarise at the end of the lesson, you may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 find the slides useful for a quick revision cou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 that you can tell when to stop clicking, the last line (only) on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slide has a full sto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8"/>
          <p:cNvSpPr/>
          <p:nvPr/>
        </p:nvSpPr>
        <p:spPr>
          <a:xfrm>
            <a:off x="762120" y="380880"/>
            <a:ext cx="7986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8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Velocity and Acceler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9"/>
          <p:cNvSpPr/>
          <p:nvPr/>
        </p:nvSpPr>
        <p:spPr>
          <a:xfrm>
            <a:off x="762120" y="1919160"/>
            <a:ext cx="77724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calculate averag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fference between speed and vel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calculate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interpret velocity-time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762120" y="380880"/>
            <a:ext cx="79866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pter 18 :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Velocity and Accelerat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r>
              <a:rPr b="0" lang="en-GB" sz="2800" spc="-1" strike="noStrike">
                <a:solidFill>
                  <a:srgbClr val="000000"/>
                </a:solidFill>
                <a:latin typeface="Swis721 Md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762120" y="1600200"/>
            <a:ext cx="77724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interpret distance-time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eaning of ‘displacemen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use the ‘equations of motion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o measure the acceleration due to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800" indent="-388800">
              <a:spcBef>
                <a:spcPts val="2001"/>
              </a:spcBef>
              <a:buClr>
                <a:srgbClr val="333399"/>
              </a:buClr>
              <a:buSzPct val="120000"/>
              <a:buFont typeface="Arial"/>
              <a:buChar char="•"/>
              <a:tabLst>
                <a:tab algn="l" pos="388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relationship between force, mass and accel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4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8388360" y="2781360"/>
            <a:ext cx="576360" cy="3816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0:29:50Z</dcterms:created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Keith Johnson</cp:lastModifiedBy>
  <dcterms:modified xsi:type="dcterms:W3CDTF">2017-03-26T19:26:57Z</dcterms:modified>
  <cp:revision>24</cp:revision>
  <dc:subject>Physics for You Support File</dc:subject>
  <dc:title>Physics for You</dc:title>
</cp:coreProperties>
</file>