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11.gif" ContentType="image/gif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0E67-D9E7-4EDE-AA6F-FC14EA1380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AFF9-EDEA-4C7A-BE41-EA7B5E7190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FE03-3C41-40FA-AA4A-59010FAAC0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F57B-1396-4B8F-880F-8EF786E87CE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068-56DA-4DDF-A588-D99D73D9E8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443F-5E8D-4EC5-BE18-FC3560347C5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14DF-BF36-464B-A223-1A33170C9A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C7C3-D61B-49B4-A514-BE04321A90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B723-00DA-4547-9FE1-2D9A1D55D6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5045-8298-4AF7-8878-EFABF0D0A3D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51C-3848-4103-A148-2495DE39D1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9164-5A7D-4452-A82B-2CA6E9D986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DD26-C821-4C25-8CCC-F7094DCA0BD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6765-BABF-445E-BA6A-E77AE30FD8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EA22-A72E-4FAD-814D-E1C50249E3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205-EB98-4686-BCF8-67DD559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518-467B-4EFD-BD00-9CD5D5A8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8D5-DB1A-421F-B597-E50223FF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02E-C503-495A-AF12-3D8F9A51C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CDD7-0B82-4DD8-BA41-5B275FCC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14D-745C-41AF-925D-1D7427D7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758A-A2C3-4664-B286-67A75248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ACFA-2874-40AA-A7E0-8FAFDEB6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4797-8C7A-407D-94CE-96D2BF58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3318-6B6D-48CF-963E-5A41BE2F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E88-32F6-42DC-8644-B2A215C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AD2-7D47-4DC1-A54D-FDEE124F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7F2C-B5BB-4BCC-B879-135CC4E3BCF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026"/>
          <p:cNvSpPr/>
          <p:nvPr/>
        </p:nvSpPr>
        <p:spPr>
          <a:xfrm>
            <a:off x="1143000" y="990720"/>
            <a:ext cx="7391520" cy="47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eacher’s Not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is PowerPoint animates the parachutist sequence and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peed-time graph shown on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page 93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in the Pupils’ Boo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It deals with balanced and unbalanced (resultant) force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air resistance (drag), terminal velocity, and a speed-time grap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se are all topics in which students often develop misconception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Naturally it pays to have a quick practice-run firs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o start the slide-show in Full Screen mode,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either press &lt;F5&gt;, or right-click and select Full Screen  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(to return to ‘normal view’ press the &lt;Esc&gt; key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here is a photocopiable </a:t>
            </a: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Extension shee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of the same sequenc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8604360" y="501336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she goes slo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para4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para4"/>
          <p:cNvPicPr/>
          <p:nvPr/>
        </p:nvPicPr>
        <p:blipFill>
          <a:blip r:embed="rId2"/>
          <a:stretch/>
        </p:blipFill>
        <p:spPr>
          <a:xfrm>
            <a:off x="452520" y="2432160"/>
            <a:ext cx="2604960" cy="39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80880" y="304920"/>
            <a:ext cx="861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drag is 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til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380880" y="1447920"/>
            <a:ext cx="883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n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a new, slower terminal velo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he lands on the groun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9" descr="para5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para5"/>
          <p:cNvPicPr/>
          <p:nvPr/>
        </p:nvPicPr>
        <p:blipFill>
          <a:blip r:embed="rId2"/>
          <a:stretch/>
        </p:blipFill>
        <p:spPr>
          <a:xfrm>
            <a:off x="228600" y="3429000"/>
            <a:ext cx="3087720" cy="24685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2"/>
          <p:cNvSpPr/>
          <p:nvPr/>
        </p:nvSpPr>
        <p:spPr>
          <a:xfrm>
            <a:off x="380880" y="762120"/>
            <a:ext cx="85345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ow her weight is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equ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upward push from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er speed is now zero, …and because the forces are balanced it stays z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685800" y="533520"/>
            <a:ext cx="5105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should now be able to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85800" y="1981080"/>
            <a:ext cx="838188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de whether forces are balanced or unbala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de whether objects will stay at the same speed, or accelerate, or decel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why falling objects reach a ‘terminal velocit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1599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speed-time grap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860436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85800" y="838080"/>
            <a:ext cx="7467480" cy="30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99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GB" sz="3200" spc="-1" strike="noStrike">
                <a:solidFill>
                  <a:srgbClr val="3366ff"/>
                </a:solidFill>
                <a:latin typeface="Arial"/>
              </a:rPr>
              <a:t>Physics for You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urther reading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ages 93, 132, 12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99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999"/>
              </a:spcBef>
              <a:tabLst>
                <a:tab algn="l" pos="0"/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n pages 137, 14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604360" y="515772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762120" y="533520"/>
            <a:ext cx="5105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should lear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762120" y="2057400"/>
            <a:ext cx="7772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999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balanced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unbalanced (resultant)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bout the effect of air resistance (dra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s meant by ‘terminal velocity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draw speed-time 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8572680" y="5084640"/>
            <a:ext cx="24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o the skydiver jumps out of a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para1"/>
          <p:cNvPicPr/>
          <p:nvPr/>
        </p:nvPicPr>
        <p:blipFill>
          <a:blip r:embed="rId1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only force on her is her weight, 700 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an unbalanced (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resul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forc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ccelerat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downw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t the star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051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52" descr="para1"/>
          <p:cNvPicPr/>
          <p:nvPr/>
        </p:nvPicPr>
        <p:blipFill>
          <a:blip r:embed="rId2"/>
          <a:stretch/>
        </p:blipFill>
        <p:spPr>
          <a:xfrm>
            <a:off x="457200" y="3505320"/>
            <a:ext cx="2624040" cy="1920600"/>
          </a:xfrm>
          <a:prstGeom prst="rect">
            <a:avLst/>
          </a:prstGeom>
          <a:ln w="0">
            <a:noFill/>
          </a:ln>
        </p:spPr>
      </p:pic>
      <p:sp>
        <p:nvSpPr>
          <p:cNvPr id="67" name="Line 2053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2054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055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056"/>
          <p:cNvSpPr/>
          <p:nvPr/>
        </p:nvSpPr>
        <p:spPr>
          <a:xfrm>
            <a:off x="380880" y="914400"/>
            <a:ext cx="8534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re’s no air resistance, because she is not moving through the ai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Ye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 she falls fas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para1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9840" cy="3381480"/>
          </a:xfrm>
          <a:prstGeom prst="rect">
            <a:avLst/>
          </a:prstGeom>
          <a:ln w="0">
            <a:noFill/>
          </a:ln>
        </p:spPr>
      </p:pic>
      <p:sp>
        <p:nvSpPr>
          <p:cNvPr id="73" name="Line 5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9" descr="para1-B"/>
          <p:cNvPicPr/>
          <p:nvPr/>
        </p:nvPicPr>
        <p:blipFill>
          <a:blip r:embed="rId2"/>
          <a:stretch/>
        </p:blipFill>
        <p:spPr>
          <a:xfrm>
            <a:off x="455760" y="3505320"/>
            <a:ext cx="2624040" cy="1919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0880" y="990720"/>
            <a:ext cx="86108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air resistance (drag) increase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her acceleration is l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4572000" y="251460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on the air resistance equals her we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 flipH="1">
            <a:off x="8532360" y="2819520"/>
            <a:ext cx="180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" descr="para2"/>
          <p:cNvPicPr/>
          <p:nvPr/>
        </p:nvPicPr>
        <p:blipFill>
          <a:blip r:embed="rId1"/>
          <a:stretch/>
        </p:blipFill>
        <p:spPr>
          <a:xfrm>
            <a:off x="519120" y="3276720"/>
            <a:ext cx="260496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para2graph"/>
          <p:cNvPicPr/>
          <p:nvPr/>
        </p:nvPicPr>
        <p:blipFill>
          <a:blip r:embed="rId2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80880" y="838080"/>
            <a:ext cx="84582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forces ar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alanc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d so she falls at a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spe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s is her  terminal veloc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me to open the parachute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8532720" y="0"/>
            <a:ext cx="0" cy="685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it opens, the drag increases.  A lo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8532360" y="2743200"/>
            <a:ext cx="1800" cy="4114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 flipH="1">
            <a:off x="0" y="62373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para3graph"/>
          <p:cNvPicPr/>
          <p:nvPr/>
        </p:nvPicPr>
        <p:blipFill>
          <a:blip r:embed="rId1"/>
          <a:stretch/>
        </p:blipFill>
        <p:spPr>
          <a:xfrm>
            <a:off x="3419640" y="2852640"/>
            <a:ext cx="5106960" cy="3372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ara3"/>
          <p:cNvPicPr/>
          <p:nvPr/>
        </p:nvPicPr>
        <p:blipFill>
          <a:blip r:embed="rId2"/>
          <a:stretch/>
        </p:blipFill>
        <p:spPr>
          <a:xfrm>
            <a:off x="455760" y="2362320"/>
            <a:ext cx="2604960" cy="3875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7524720" y="649116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xt &gt;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80880" y="9288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the upward force is greater than the downward force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886200" y="142884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 she slows down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     (‘decelerates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6:50:13Z</dcterms:created>
  <dc:creator>Andy Darvill, Keith Johnson</dc:creator>
  <dc:description/>
  <dc:language>en-US</dc:language>
  <cp:lastModifiedBy>Keith Johnson</cp:lastModifiedBy>
  <dcterms:modified xsi:type="dcterms:W3CDTF">2017-03-26T19:28:21Z</dcterms:modified>
  <cp:revision>77</cp:revision>
  <dc:subject/>
  <dc:title>Parachute &amp; Terminal Veloc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